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F96-E892-4367-83B1-B85F1930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FBC-DCDD-4B1B-8D56-E71B7459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938-C17D-46D3-8ECE-2464CA76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A66-3B49-43A8-9791-7EFB7287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DA24-063B-4830-98E7-9EB233EC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2F27-D90A-435A-A010-C61E1BA9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BD30-68CC-42CE-9837-C032FA5D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2307-E83A-4CB2-811D-2CEB1665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2590-98C3-4DDF-8D03-DC501F9D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E101-F6A8-4D1E-9129-EFA0B72F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71F4-E133-4309-997B-56236EAF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F3C-DD78-463A-B277-A0FEAE64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4891-2074-4933-9936-EC009746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ED56-6533-413C-984E-5589CA57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4CEC-00CD-407B-BCFF-B545161D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59C0-2D50-4987-893E-D4418F62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6574-ADE9-45BC-A2E2-80093EA4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0DC-42EC-4A47-A783-D79ACC88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40E-AB7E-42B0-9F2D-EC8547C2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5FF-ED24-4F92-A47E-3946CCE4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D12-818F-47DD-8B8B-A2075CCB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4A6-F112-43B9-A873-93CFBE21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D03-7C96-4C0E-863E-8A3EDAF9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D69-3624-4658-8867-4927E763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0D25-FC16-45E7-AB89-7150D204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84AC-BE31-421A-BBFD-708214285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Chalkboard Bold"/>
              </a:rPr>
              <a:t>Le Fut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400" y="3885840"/>
            <a:ext cx="66056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Chalkboard"/>
              </a:rPr>
              <a:t>or, saying what you shall/will do, in Fre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Chalkboard"/>
              </a:rPr>
              <a:t>        </a:t>
            </a:r>
            <a:r>
              <a:rPr b="0" lang="en-US" sz="2400" spc="-1" strike="noStrike">
                <a:solidFill>
                  <a:srgbClr val="3366cc"/>
                </a:solidFill>
                <a:latin typeface="Chalkboard"/>
              </a:rPr>
              <a:t>Je mangerai des escarg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_x000e_escargots.jpeg                                                 0008DDB3_x000c_Macintosh HD                   BEF84114:"/>
          <p:cNvPicPr/>
          <p:nvPr/>
        </p:nvPicPr>
        <p:blipFill>
          <a:blip r:embed="rId1"/>
          <a:stretch/>
        </p:blipFill>
        <p:spPr>
          <a:xfrm>
            <a:off x="3429000" y="4572000"/>
            <a:ext cx="98568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 Bold"/>
              </a:rPr>
              <a:t>L’Île de Ré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4419720"/>
            <a:ext cx="78026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À l’Île de Ré, je verrai les bateaux au port de St Martin et me promènerai dans les petites r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_x000f_Ile de Ré 2.jpg                                                000883D2_x000c_Macintosh HD                   BEF84114:"/>
          <p:cNvPicPr/>
          <p:nvPr/>
        </p:nvPicPr>
        <p:blipFill>
          <a:blip r:embed="rId1"/>
          <a:stretch/>
        </p:blipFill>
        <p:spPr>
          <a:xfrm>
            <a:off x="1757520" y="198108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&#13;Ile de Ré.jpg                                                  000883D2_x000c_Macintosh HD                   BEF84114:"/>
          <p:cNvPicPr/>
          <p:nvPr/>
        </p:nvPicPr>
        <p:blipFill>
          <a:blip r:embed="rId2"/>
          <a:stretch/>
        </p:blipFill>
        <p:spPr>
          <a:xfrm rot="5359200">
            <a:off x="5719320" y="1981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 Bold"/>
              </a:rPr>
              <a:t>à vous maintenant...</a:t>
            </a:r>
            <a:br>
              <a:rPr sz="4000"/>
            </a:br>
            <a:r>
              <a:rPr b="0" i="1" lang="en-US" sz="2800" spc="-1" strike="noStrike">
                <a:solidFill>
                  <a:srgbClr val="003366"/>
                </a:solidFill>
                <a:latin typeface="Chalkboard"/>
              </a:rPr>
              <a:t>Change verbs from Present to Fu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travaill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d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fini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bientô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l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vend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s vê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attendon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l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Qu’est-ce que v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choisissez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regarden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le ma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ravaill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n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ve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ttend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hoisi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garde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halkboard"/>
              </a:rPr>
              <a:t>Same again, but with irregulars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fau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part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sui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ct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avez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ra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fon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la vaiss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devenon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ri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l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v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en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doi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travai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voi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mes a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au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u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e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viend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v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er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halkboard"/>
              </a:rPr>
              <a:t>Yes, it’s another tense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 far, you have learnt the Close Future Tense – le Futur Proche, using aller + infinitive, to mean “going to…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true Future in English uses “shall” or “will” with another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true Future in French uses a series of endings. They sort of look like the Present Tense of avoir : -ai, -as, -a, -ons, -ez, -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7673472" presetSubtype="72081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954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"/>
              </a:rPr>
              <a:t>So, how do I form the Future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54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r regular –er &amp; -ir verbs, the endings are added to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par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je parlerai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nous parle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tu parleras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vous parler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il parlera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ils parler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je finirai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nous fini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tu finiras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vous finir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il finira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ils finir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"/>
              </a:rPr>
              <a:t>and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r regular –re verbs (including prendre,connaître, lire, dire, conduire), just drop the final –e of the infinitive, before adding the e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ten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’  attendra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us attend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u attendra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ous attend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   attendr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s     attend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 Bold"/>
              </a:rPr>
              <a:t>Par exemple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dégusterai du champa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 choisira le poulet rô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us prendrons de TG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&#13;champagne.gif                                                  0008DDB3_x000c_Macintosh HD                   BEF84114:"/>
          <p:cNvPicPr/>
          <p:nvPr/>
        </p:nvPicPr>
        <p:blipFill>
          <a:blip r:embed="rId1"/>
          <a:stretch/>
        </p:blipFill>
        <p:spPr>
          <a:xfrm>
            <a:off x="6248520" y="205740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_x000f_poulet roti.gif                                                0008DDB3_x000c_Macintosh HD                   BEF84114:"/>
          <p:cNvPicPr/>
          <p:nvPr/>
        </p:nvPicPr>
        <p:blipFill>
          <a:blip r:embed="rId2"/>
          <a:stretch/>
        </p:blipFill>
        <p:spPr>
          <a:xfrm>
            <a:off x="6095880" y="297180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_x0008_TGV1.gif                                                       0008DDB9_x000c_Macintosh HD                   BEF84114:"/>
          <p:cNvPicPr/>
          <p:nvPr/>
        </p:nvPicPr>
        <p:blipFill>
          <a:blip r:embed="rId3"/>
          <a:stretch/>
        </p:blipFill>
        <p:spPr>
          <a:xfrm>
            <a:off x="6095880" y="3809880"/>
            <a:ext cx="573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IRREGULARS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53352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course, there are irregulars – but only the stems, not the endings! So if you learn the je form, you can do all the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l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r-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’ira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e n’irai pas avec v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o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r-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’aura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e n’aurai pas le te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êtr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r-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e sera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serai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faire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fe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ferai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ferai beauc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devoi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dev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devrai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devrai travai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pouvoir   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pour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pourrai       </a:t>
            </a:r>
            <a:r>
              <a:rPr b="0" lang="fr-FR" sz="1800" spc="-1" strike="noStrike">
                <a:solidFill>
                  <a:srgbClr val="000000"/>
                </a:solidFill>
                <a:latin typeface="Chalkboard"/>
              </a:rPr>
              <a:t>Je pourrai étudier à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ouloi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oud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voudrai  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voudrai gag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savoi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sau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saurai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ne saurai jam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eni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iend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viendrai     </a:t>
            </a:r>
            <a:r>
              <a:rPr b="0" lang="fr-FR" sz="1800" spc="-1" strike="noStrike">
                <a:solidFill>
                  <a:srgbClr val="000000"/>
                </a:solidFill>
                <a:latin typeface="Chalkboard"/>
              </a:rPr>
              <a:t>Je viendrai vous rendre vi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oi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er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verrai       </a:t>
            </a:r>
            <a:r>
              <a:rPr b="0" lang="fr-FR" sz="1800" spc="-1" strike="noStrike">
                <a:solidFill>
                  <a:srgbClr val="000000"/>
                </a:solidFill>
                <a:latin typeface="Chalkboard"/>
              </a:rPr>
              <a:t>Je verrai mes grands-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envoye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enver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’enverrai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t’enverrai une c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"/>
              </a:rPr>
              <a:t>NB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NB : used only in i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falloir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faudr-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il faudra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Il faudra apprendre ça!  </a:t>
            </a:r>
            <a:r>
              <a:rPr b="0" i="1" lang="fr-FR" sz="1800" spc="-1" strike="noStrike">
                <a:solidFill>
                  <a:srgbClr val="000000"/>
                </a:solidFill>
                <a:latin typeface="Chalkboard"/>
              </a:rPr>
              <a:t>We’ll have to learn th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pleuvoir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pleuvr-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il pleuvra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Il pleuvra demain.   </a:t>
            </a:r>
            <a:r>
              <a:rPr b="0" i="1" lang="fr-FR" sz="1800" spc="-1" strike="noStrike">
                <a:solidFill>
                  <a:srgbClr val="000000"/>
                </a:solidFill>
                <a:latin typeface="Chalkboard"/>
              </a:rPr>
              <a:t>         It’ll rain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&#9;rainy.gif                                                      0008B2EA_x000c_Macintosh HD                   BEF84114:"/>
          <p:cNvPicPr/>
          <p:nvPr/>
        </p:nvPicPr>
        <p:blipFill>
          <a:blip r:embed="rId1"/>
          <a:stretch/>
        </p:blipFill>
        <p:spPr>
          <a:xfrm>
            <a:off x="6248520" y="5410080"/>
            <a:ext cx="573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 Bold"/>
              </a:rPr>
              <a:t>En France, j’irai à La Rochel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visiterai le vieux port, où je verrai la Tour St Nicholas et la Tour de la Chaî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marcherai sous la Grosse Horloge, pour entrer dans le centre-v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_x001a_La Rochelle, le bassin.jpg                                     000883D2_x000c_Macintosh HD                   BEF84114:"/>
          <p:cNvPicPr/>
          <p:nvPr/>
        </p:nvPicPr>
        <p:blipFill>
          <a:blip r:embed="rId1"/>
          <a:stretch/>
        </p:blipFill>
        <p:spPr>
          <a:xfrm>
            <a:off x="57196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_x001f_La Grande Horloge La #8C96B.jpg                                000883D2_x000c_Macintosh HD                   BEF84114:"/>
          <p:cNvPicPr/>
          <p:nvPr/>
        </p:nvPicPr>
        <p:blipFill>
          <a:blip r:embed="rId2"/>
          <a:stretch/>
        </p:blipFill>
        <p:spPr>
          <a:xfrm>
            <a:off x="571968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 Bold"/>
              </a:rPr>
              <a:t>à La Rochelle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passerai quelques jours au Lycée Dautet avec mon frère d’accue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 la Place Verdun, je prendrai le bus pour aller à l’Île de R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_x0016_Lycée Dautet 6 jan.jpg                                         000883D2_x000c_Macintosh HD                   BEF84114:"/>
          <p:cNvPicPr/>
          <p:nvPr/>
        </p:nvPicPr>
        <p:blipFill>
          <a:blip r:embed="rId1"/>
          <a:stretch/>
        </p:blipFill>
        <p:spPr>
          <a:xfrm>
            <a:off x="1757520" y="198108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_x001f_Place Verdun La Roche#8C966.jpg                                000883D2_x000c_Macintosh HD                   BEF84114:"/>
          <p:cNvPicPr/>
          <p:nvPr/>
        </p:nvPicPr>
        <p:blipFill>
          <a:blip r:embed="rId2"/>
          <a:stretch/>
        </p:blipFill>
        <p:spPr>
          <a:xfrm>
            <a:off x="1757520" y="4114800"/>
            <a:ext cx="2641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4:02:36Z</dcterms:created>
  <dc:creator>Julia Brown</dc:creator>
  <dc:description/>
  <dc:language>en-US</dc:language>
  <cp:lastModifiedBy>scollett</cp:lastModifiedBy>
  <dcterms:modified xsi:type="dcterms:W3CDTF">2010-08-31T03:21:59Z</dcterms:modified>
  <cp:revision>4</cp:revision>
  <dc:subject/>
  <dc:title>Le Futur</dc:title>
</cp:coreProperties>
</file>